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png" ContentType="image/png"/>
  <Override PartName="/ppt/media/image28.gif" ContentType="image/gif"/>
  <Override PartName="/ppt/media/image27.wmf" ContentType="image/x-wmf"/>
  <Override PartName="/ppt/media/image16.jpeg" ContentType="image/jpeg"/>
  <Override PartName="/ppt/media/image25.jpeg" ContentType="image/jpeg"/>
  <Override PartName="/ppt/media/image22.png" ContentType="image/png"/>
  <Override PartName="/ppt/media/image1.jpeg" ContentType="image/jpeg"/>
  <Override PartName="/ppt/media/image21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3B6-4B53-43A6-B85E-57643A26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9F3-3794-4EE7-ABCC-643C8053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1E9-F28F-44DF-9F23-6CD831BE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B7D-D900-4536-A965-1DBB7224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1272-33AE-4887-AEB2-A9A92493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0450-366E-47E0-9031-7574CC80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EAF5-1341-4051-8F07-1DF96C08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F435-CAD6-41F8-8527-CF47D257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1557-C527-45EA-8443-47646CF1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76C7-CC1D-4328-83FC-CEADD2BF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B52F-0DC8-4D76-9744-6971836B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C28-4417-43C4-9D95-A4B8AFC0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150B-61FF-4D6E-BD1A-011519A2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5703-BB45-4893-B180-0F58E41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BCB6-050E-43EF-B777-3A351424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1CE5-B2FA-4CF2-A844-F9A10978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A90F-0290-4607-B1B1-CBC9D85A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7BA-8942-4E68-8CB6-D68AB91E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94A-A756-4D45-A341-338591E6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1C0-9B1E-43FF-8F4D-51A235BC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91D6-609C-4AAB-8FB5-B60CE89F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DB2-4CE1-47FD-A644-BBD4874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208-C668-471A-8F88-AEAE1A32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AD0-B725-4237-8EA1-8254BA6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46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5b46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5b46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5b46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5b462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5b462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240A-F3D1-45D7-9F61-AAE98EC6EBEE}" type="slidenum">
              <a:rPr b="1" lang="en-AU" sz="1400" spc="-1" strike="noStrike">
                <a:solidFill>
                  <a:srgbClr val="5b4628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basket_titleframe"/>
          <p:cNvPicPr/>
          <p:nvPr/>
        </p:nvPicPr>
        <p:blipFill>
          <a:blip r:embed="rId3"/>
          <a:stretch/>
        </p:blipFill>
        <p:spPr>
          <a:xfrm>
            <a:off x="1406520" y="1208160"/>
            <a:ext cx="6594480" cy="2378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46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5b46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5b46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5b46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462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424E-9997-41AC-8418-6D8E90F63650}" type="slidenum">
              <a:rPr b="1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usport.gov.au/aasc/index.asp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Hyperlinked%20resources/school2.pdf" TargetMode="External"/><Relationship Id="rId2" Type="http://schemas.openxmlformats.org/officeDocument/2006/relationships/hyperlink" Target="http://www.walkingschoolbus.com/" TargetMode="External"/><Relationship Id="rId3" Type="http://schemas.openxmlformats.org/officeDocument/2006/relationships/hyperlink" Target="http://www.travelsmart.gov.au/" TargetMode="Externa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ewhealth.govt.nz/" TargetMode="External"/><Relationship Id="rId2" Type="http://schemas.openxmlformats.org/officeDocument/2006/relationships/hyperlink" Target="http://www.dundee.ac.uk/sportexercise/events/2005/walkin.htm" TargetMode="External"/><Relationship Id="rId3" Type="http://schemas.openxmlformats.org/officeDocument/2006/relationships/hyperlink" Target="http://www.activelivingatwork.com/" TargetMode="External"/><Relationship Id="rId4" Type="http://schemas.openxmlformats.org/officeDocument/2006/relationships/hyperlink" Target="http://www.findthirty.com.au/" TargetMode="External"/><Relationship Id="rId5" Type="http://schemas.openxmlformats.org/officeDocument/2006/relationships/hyperlink" Target="http://www.shaw.uk.com/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pi.wa.gov.au/walking/713.asp" TargetMode="External"/><Relationship Id="rId2" Type="http://schemas.openxmlformats.org/officeDocument/2006/relationships/hyperlink" Target="http://www.whi.org.uk/" TargetMode="External"/><Relationship Id="rId3" Type="http://schemas.openxmlformats.org/officeDocument/2006/relationships/hyperlink" Target="http://www.path-to-health.com/" TargetMode="External"/><Relationship Id="rId4" Type="http://schemas.openxmlformats.org/officeDocument/2006/relationships/hyperlink" Target="http://www.joondalup.wa.gov.au/" TargetMode="External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www.ausport.gov.au/imagelibrary/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ausport.gov.au/imagelibrary/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www.ausport.gov.au/imagelibrary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www.ausport.gov.au/imagelibrary" TargetMode="External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hyperlink" Target="http://www.find30.com.au/" TargetMode="External"/><Relationship Id="rId3" Type="http://schemas.openxmlformats.org/officeDocument/2006/relationships/hyperlink" Target="http://www.walkingbus.com/" TargetMode="External"/><Relationship Id="rId4" Type="http://schemas.openxmlformats.org/officeDocument/2006/relationships/hyperlink" Target="http://www.newhealth.govt.nz/" TargetMode="External"/><Relationship Id="rId5" Type="http://schemas.openxmlformats.org/officeDocument/2006/relationships/hyperlink" Target="http://www.10000steps.org.au/rockhampton/" TargetMode="External"/><Relationship Id="rId6" Type="http://schemas.openxmlformats.org/officeDocument/2006/relationships/hyperlink" Target="http://www.travelsmart.gov.au/" TargetMode="External"/><Relationship Id="rId7" Type="http://schemas.openxmlformats.org/officeDocument/2006/relationships/hyperlink" Target="http://www.who.int/" TargetMode="External"/><Relationship Id="rId8" Type="http://schemas.openxmlformats.org/officeDocument/2006/relationships/hyperlink" Target="http://www.heartfoundation.com.au/" TargetMode="External"/><Relationship Id="rId9" Type="http://schemas.openxmlformats.org/officeDocument/2006/relationships/hyperlink" Target="http://www.vichealth.vic.gov.au/" TargetMode="External"/><Relationship Id="rId10" Type="http://schemas.openxmlformats.org/officeDocument/2006/relationships/hyperlink" Target="http://www.beactive.com.au/" TargetMode="External"/><Relationship Id="rId11" Type="http://schemas.openxmlformats.org/officeDocument/2006/relationships/hyperlink" Target="http://www.goforyourlife.vic.gov.au/" TargetMode="External"/><Relationship Id="rId12" Type="http://schemas.openxmlformats.org/officeDocument/2006/relationships/hyperlink" Target="http://www.cdc.gov/nccdphp/dnpa/physical/health_professionals/index.htm" TargetMode="External"/><Relationship Id="rId13" Type="http://schemas.openxmlformats.org/officeDocument/2006/relationships/hyperlink" Target="http://www.phac-aspc.gc.ca/hp-ps/index.html" TargetMode="External"/><Relationship Id="rId14" Type="http://schemas.openxmlformats.org/officeDocument/2006/relationships/hyperlink" Target="http://www.nphp.gov.au/workprog/sigpah/" TargetMode="External"/><Relationship Id="rId15" Type="http://schemas.openxmlformats.org/officeDocument/2006/relationships/hyperlink" Target="http://www.cdc.gov/HealthyYouth/" TargetMode="External"/><Relationship Id="rId16" Type="http://schemas.openxmlformats.org/officeDocument/2006/relationships/hyperlink" Target="http://www.americaonthemove.org/" TargetMode="External"/><Relationship Id="rId17" Type="http://schemas.openxmlformats.org/officeDocument/2006/relationships/hyperlink" Target="http://www.ijbnpa.org/home" TargetMode="External"/><Relationship Id="rId18" Type="http://schemas.openxmlformats.org/officeDocument/2006/relationships/hyperlink" Target="http://www.health.gov.au/internet/wcms/publishing.nsf/content/home" TargetMode="External"/><Relationship Id="rId19" Type="http://schemas.openxmlformats.org/officeDocument/2006/relationships/hyperlink" Target="http://www.healthyactive.gov.au/" TargetMode="External"/><Relationship Id="rId20" Type="http://schemas.openxmlformats.org/officeDocument/2006/relationships/hyperlink" Target="http://www.nphp.gov.au/" TargetMode="External"/><Relationship Id="rId21" Type="http://schemas.openxmlformats.org/officeDocument/2006/relationships/hyperlink" Target="http://www.beactive.com.au/" TargetMode="External"/><Relationship Id="rId22" Type="http://schemas.openxmlformats.org/officeDocument/2006/relationships/hyperlink" Target="http://www.sport.vic.gov.au/" TargetMode="External"/><Relationship Id="rId23" Type="http://schemas.openxmlformats.org/officeDocument/2006/relationships/hyperlink" Target="http://www.ausport.gov.au/" TargetMode="External"/><Relationship Id="rId24" Type="http://schemas.openxmlformats.org/officeDocument/2006/relationships/hyperlink" Target="http://www.find30.com.au/" TargetMode="External"/><Relationship Id="rId25" Type="http://schemas.openxmlformats.org/officeDocument/2006/relationships/hyperlink" Target="http://www.walkingbus.com/" TargetMode="External"/><Relationship Id="rId26" Type="http://schemas.openxmlformats.org/officeDocument/2006/relationships/hyperlink" Target="http://www.newhealth.govt.nz/" TargetMode="External"/><Relationship Id="rId27" Type="http://schemas.openxmlformats.org/officeDocument/2006/relationships/hyperlink" Target="http://www.10000steps.org.au/rockhampton/" TargetMode="External"/><Relationship Id="rId28" Type="http://schemas.openxmlformats.org/officeDocument/2006/relationships/hyperlink" Target="http://www.travelsmart.gov.au/" TargetMode="External"/><Relationship Id="rId29" Type="http://schemas.openxmlformats.org/officeDocument/2006/relationships/hyperlink" Target="http://www.who.int/" TargetMode="External"/><Relationship Id="rId30" Type="http://schemas.openxmlformats.org/officeDocument/2006/relationships/hyperlink" Target="http://www.heartfoundation.com.au/" TargetMode="External"/><Relationship Id="rId31" Type="http://schemas.openxmlformats.org/officeDocument/2006/relationships/hyperlink" Target="http://www.vichealth.vic.gov.au/" TargetMode="External"/><Relationship Id="rId32" Type="http://schemas.openxmlformats.org/officeDocument/2006/relationships/hyperlink" Target="http://www.beactive.com.au/" TargetMode="External"/><Relationship Id="rId3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hyperlink" Target="http://www.find30.com.au/" TargetMode="External"/><Relationship Id="rId3" Type="http://schemas.openxmlformats.org/officeDocument/2006/relationships/hyperlink" Target="http://www.walkingbus.com/" TargetMode="External"/><Relationship Id="rId4" Type="http://schemas.openxmlformats.org/officeDocument/2006/relationships/hyperlink" Target="http://www.newhealth.govt.nz/" TargetMode="External"/><Relationship Id="rId5" Type="http://schemas.openxmlformats.org/officeDocument/2006/relationships/hyperlink" Target="http://www.10000steps.org.au/rockhampton/" TargetMode="External"/><Relationship Id="rId6" Type="http://schemas.openxmlformats.org/officeDocument/2006/relationships/hyperlink" Target="http://www.travelsmart.gov.au/" TargetMode="External"/><Relationship Id="rId7" Type="http://schemas.openxmlformats.org/officeDocument/2006/relationships/hyperlink" Target="http://www.who.int/" TargetMode="External"/><Relationship Id="rId8" Type="http://schemas.openxmlformats.org/officeDocument/2006/relationships/hyperlink" Target="http://www.heartfoundation.com.au/" TargetMode="External"/><Relationship Id="rId9" Type="http://schemas.openxmlformats.org/officeDocument/2006/relationships/hyperlink" Target="http://www.vichealth.vic.gov.au/" TargetMode="External"/><Relationship Id="rId10" Type="http://schemas.openxmlformats.org/officeDocument/2006/relationships/hyperlink" Target="http://www.beactive.com.au/" TargetMode="External"/><Relationship Id="rId11" Type="http://schemas.openxmlformats.org/officeDocument/2006/relationships/hyperlink" Target="http://www.goforyourlife.vic.gov.au/" TargetMode="External"/><Relationship Id="rId12" Type="http://schemas.openxmlformats.org/officeDocument/2006/relationships/hyperlink" Target="http://www.cdc.gov/nccdphp/dnpa/physical/health_professionals/index.htm" TargetMode="External"/><Relationship Id="rId13" Type="http://schemas.openxmlformats.org/officeDocument/2006/relationships/hyperlink" Target="http://www.phac-aspc.gc.ca/hp-ps/index.html" TargetMode="External"/><Relationship Id="rId14" Type="http://schemas.openxmlformats.org/officeDocument/2006/relationships/hyperlink" Target="http://www.nphp.gov.au/workprog/sigpah/" TargetMode="External"/><Relationship Id="rId15" Type="http://schemas.openxmlformats.org/officeDocument/2006/relationships/hyperlink" Target="http://www.cdc.gov/HealthyYouth/" TargetMode="External"/><Relationship Id="rId16" Type="http://schemas.openxmlformats.org/officeDocument/2006/relationships/hyperlink" Target="http://www.americaonthemove.org/" TargetMode="External"/><Relationship Id="rId17" Type="http://schemas.openxmlformats.org/officeDocument/2006/relationships/hyperlink" Target="http://www.ijbnpa.org/home" TargetMode="External"/><Relationship Id="rId18" Type="http://schemas.openxmlformats.org/officeDocument/2006/relationships/hyperlink" Target="http://www.health.gov.au/internet/wcms/publishing.nsf/content/home" TargetMode="External"/><Relationship Id="rId19" Type="http://schemas.openxmlformats.org/officeDocument/2006/relationships/hyperlink" Target="http://www.healthyactive.gov.au/" TargetMode="External"/><Relationship Id="rId20" Type="http://schemas.openxmlformats.org/officeDocument/2006/relationships/hyperlink" Target="http://www.nphp.gov.au/" TargetMode="External"/><Relationship Id="rId21" Type="http://schemas.openxmlformats.org/officeDocument/2006/relationships/hyperlink" Target="http://www.beactive.com.au/" TargetMode="External"/><Relationship Id="rId22" Type="http://schemas.openxmlformats.org/officeDocument/2006/relationships/hyperlink" Target="http://www.sport.vic.gov.au/" TargetMode="External"/><Relationship Id="rId23" Type="http://schemas.openxmlformats.org/officeDocument/2006/relationships/slide" Target="slide1.xm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0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ho.int/en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heartfoundation.com.au/" TargetMode="External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Chapter 3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61832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800" spc="-1" strike="noStrike">
              <a:solidFill>
                <a:srgbClr val="5b4628"/>
              </a:solidFill>
              <a:latin typeface="Arial"/>
            </a:endParaRPr>
          </a:p>
        </p:txBody>
      </p:sp>
      <p:pic>
        <p:nvPicPr>
          <p:cNvPr id="86" name="Picture 16" descr="schools23"/>
          <p:cNvPicPr/>
          <p:nvPr/>
        </p:nvPicPr>
        <p:blipFill>
          <a:blip r:embed="rId1"/>
          <a:stretch/>
        </p:blipFill>
        <p:spPr>
          <a:xfrm>
            <a:off x="5762520" y="2685960"/>
            <a:ext cx="2381400" cy="2019240"/>
          </a:xfrm>
          <a:prstGeom prst="rect">
            <a:avLst/>
          </a:prstGeom>
          <a:ln w="12600">
            <a:solidFill>
              <a:srgbClr val="4d4d4d"/>
            </a:solidFill>
            <a:miter/>
          </a:ln>
        </p:spPr>
      </p:pic>
      <p:sp>
        <p:nvSpPr>
          <p:cNvPr id="8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68360" y="198900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0" descr="bookCover_34"/>
          <p:cNvPicPr/>
          <p:nvPr/>
        </p:nvPicPr>
        <p:blipFill>
          <a:blip r:embed="rId2"/>
          <a:stretch/>
        </p:blipFill>
        <p:spPr>
          <a:xfrm>
            <a:off x="3564000" y="1916280"/>
            <a:ext cx="1473120" cy="194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Live it up 2"/>
          <p:cNvPicPr/>
          <p:nvPr/>
        </p:nvPicPr>
        <p:blipFill>
          <a:blip r:embed="rId3"/>
          <a:stretch/>
        </p:blipFill>
        <p:spPr>
          <a:xfrm>
            <a:off x="3564000" y="4149720"/>
            <a:ext cx="14335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Community Setting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12679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A ‘community’ refers to local groups of people, whole cities or whole nations.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Strengthening the communities knowledge and interest in the benefits of physical activity is therefore vital.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3280" y="134100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ommunity strategies include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eveloping local facilitie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Use of community venues that encourage physical activity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ree health checks at shopping centre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ducative sessions for community members on health issues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Review of council policie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g. ‘Leading the way’ resource for councils.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33"/>
          <p:cNvPicPr/>
          <p:nvPr/>
        </p:nvPicPr>
        <p:blipFill>
          <a:blip r:embed="rId1"/>
          <a:stretch/>
        </p:blipFill>
        <p:spPr>
          <a:xfrm>
            <a:off x="1116000" y="4724280"/>
            <a:ext cx="270036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Community Setting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Community settings provide opportunities to;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Support local council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e PA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Work with transport agenci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ncrease access to faciliti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Support media campaign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0" y="2643120"/>
            <a:ext cx="9144000" cy="1571400"/>
            <a:chOff x="0" y="2643120"/>
            <a:chExt cx="9144000" cy="1571400"/>
          </a:xfrm>
        </p:grpSpPr>
        <p:sp>
          <p:nvSpPr>
            <p:cNvPr id="141" name="Rectangle 7"/>
            <p:cNvSpPr/>
            <p:nvPr/>
          </p:nvSpPr>
          <p:spPr>
            <a:xfrm>
              <a:off x="0" y="2643120"/>
              <a:ext cx="6242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1"/>
            <p:cNvGrpSpPr/>
            <p:nvPr/>
          </p:nvGrpSpPr>
          <p:grpSpPr>
            <a:xfrm>
              <a:off x="0" y="2643120"/>
              <a:ext cx="9144000" cy="1571400"/>
              <a:chOff x="0" y="2643120"/>
              <a:chExt cx="9144000" cy="1571400"/>
            </a:xfrm>
          </p:grpSpPr>
          <p:sp>
            <p:nvSpPr>
              <p:cNvPr id="143" name="Rectangle 8"/>
              <p:cNvSpPr/>
              <p:nvPr/>
            </p:nvSpPr>
            <p:spPr>
              <a:xfrm>
                <a:off x="0" y="2643120"/>
                <a:ext cx="6242040" cy="15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9"/>
              <p:cNvSpPr/>
              <p:nvPr/>
            </p:nvSpPr>
            <p:spPr>
              <a:xfrm>
                <a:off x="0" y="2643120"/>
                <a:ext cx="9144000" cy="144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AU" sz="8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A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Group 19"/>
          <p:cNvGrpSpPr/>
          <p:nvPr/>
        </p:nvGrpSpPr>
        <p:grpSpPr>
          <a:xfrm>
            <a:off x="0" y="2643120"/>
            <a:ext cx="9144000" cy="1571400"/>
            <a:chOff x="0" y="2643120"/>
            <a:chExt cx="9144000" cy="1571400"/>
          </a:xfrm>
        </p:grpSpPr>
        <p:sp>
          <p:nvSpPr>
            <p:cNvPr id="146" name="Rectangle 14"/>
            <p:cNvSpPr/>
            <p:nvPr/>
          </p:nvSpPr>
          <p:spPr>
            <a:xfrm>
              <a:off x="0" y="2643120"/>
              <a:ext cx="6242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18"/>
            <p:cNvGrpSpPr/>
            <p:nvPr/>
          </p:nvGrpSpPr>
          <p:grpSpPr>
            <a:xfrm>
              <a:off x="0" y="2643120"/>
              <a:ext cx="9144000" cy="1571400"/>
              <a:chOff x="0" y="2643120"/>
              <a:chExt cx="9144000" cy="1571400"/>
            </a:xfrm>
          </p:grpSpPr>
          <p:sp>
            <p:nvSpPr>
              <p:cNvPr id="148" name="Rectangle 15"/>
              <p:cNvSpPr/>
              <p:nvPr/>
            </p:nvSpPr>
            <p:spPr>
              <a:xfrm>
                <a:off x="0" y="2643120"/>
                <a:ext cx="6242040" cy="15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"/>
              <p:cNvSpPr/>
              <p:nvPr/>
            </p:nvSpPr>
            <p:spPr>
              <a:xfrm>
                <a:off x="0" y="2643120"/>
                <a:ext cx="914400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333333"/>
                    </a:solidFill>
                    <a:latin typeface="Arial"/>
                    <a:ea typeface="Arial"/>
                  </a:rPr>
                  <a:t>  </a:t>
                </a:r>
                <a:r>
                  <a:rPr b="1" lang="en-AU" sz="9500" spc="-1" strike="noStrike">
                    <a:solidFill>
                      <a:srgbClr val="333333"/>
                    </a:solidFill>
                    <a:latin typeface="Times New Roman"/>
                    <a:ea typeface="Arial"/>
                  </a:rPr>
                  <a:t> </a:t>
                </a:r>
                <a:r>
                  <a:rPr b="1" lang="en-AU" sz="600" spc="-1" strike="noStrike">
                    <a:solidFill>
                      <a:srgbClr val="333333"/>
                    </a:solidFill>
                    <a:latin typeface="Times New Roman"/>
                    <a:ea typeface="Arial"/>
                  </a:rPr>
                  <a:t>                                                                            </a:t>
                </a:r>
                <a:endParaRPr b="1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Rectangle 20"/>
          <p:cNvSpPr/>
          <p:nvPr/>
        </p:nvSpPr>
        <p:spPr>
          <a:xfrm>
            <a:off x="8155440" y="914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.6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1" descr="j0336395"/>
          <p:cNvPicPr/>
          <p:nvPr/>
        </p:nvPicPr>
        <p:blipFill>
          <a:blip r:embed="rId1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j0182782"/>
          <p:cNvPicPr/>
          <p:nvPr/>
        </p:nvPicPr>
        <p:blipFill>
          <a:blip r:embed="rId2"/>
          <a:stretch/>
        </p:blipFill>
        <p:spPr>
          <a:xfrm>
            <a:off x="6443640" y="1341360"/>
            <a:ext cx="2389320" cy="3657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4" descr="j0202188"/>
          <p:cNvPicPr/>
          <p:nvPr/>
        </p:nvPicPr>
        <p:blipFill>
          <a:blip r:embed="rId3"/>
          <a:stretch/>
        </p:blipFill>
        <p:spPr>
          <a:xfrm>
            <a:off x="3203640" y="4221000"/>
            <a:ext cx="3081240" cy="2059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j0289398"/>
          <p:cNvPicPr/>
          <p:nvPr/>
        </p:nvPicPr>
        <p:blipFill>
          <a:blip r:embed="rId4"/>
          <a:stretch/>
        </p:blipFill>
        <p:spPr>
          <a:xfrm>
            <a:off x="4643280" y="1700280"/>
            <a:ext cx="1495440" cy="2260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j0289499"/>
          <p:cNvPicPr/>
          <p:nvPr/>
        </p:nvPicPr>
        <p:blipFill>
          <a:blip r:embed="rId5"/>
          <a:stretch/>
        </p:blipFill>
        <p:spPr>
          <a:xfrm>
            <a:off x="6443640" y="5084640"/>
            <a:ext cx="2333520" cy="1540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520" y="1571760"/>
            <a:ext cx="7910280" cy="16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808080"/>
                </a:solidFill>
                <a:latin typeface="Arial"/>
              </a:rPr>
              <a:t>School Setting-based Programs</a:t>
            </a:r>
            <a:endParaRPr b="0" lang="en-US" sz="5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School Setting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10920" y="134100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Schools play a major role in shaping children’s attitudes towards PA and living an active lifestyle. Schools encourage lifelong patterns of PA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School based programs are;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Moderately effective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People who participated in these programs are more likely to be active for life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Print material and school curriculum appears to be the most effective methods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00360" y="14130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Active after schools program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www.ausport.gov.au/aasc/index.asp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However PA decreases as students during the secondary years due to a crowded curriculum and student subject choices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Schools can increase PA by;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Following government recommendations for time allocated to PE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Providing sufficient sports equipment and facilities / public use.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b4628"/>
                </a:solidFill>
                <a:latin typeface="Arial"/>
              </a:rPr>
              <a:t>Promoting school sporting events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6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"/>
          <p:cNvSpPr/>
          <p:nvPr/>
        </p:nvSpPr>
        <p:spPr>
          <a:xfrm>
            <a:off x="2916360" y="2205000"/>
            <a:ext cx="3168360" cy="20890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132000" y="256536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at intervention strategies could we do at our schoo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H="1" flipV="1">
            <a:off x="2195280" y="1699920"/>
            <a:ext cx="1081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4427640" y="148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5651640" y="1773000"/>
            <a:ext cx="8650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608472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>
            <a:off x="1834920" y="328464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347640" y="414972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4859280" y="429264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796000" y="386064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600" y="3860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ducing TV Wa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1983960" y="515772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ducing video g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4719240" y="53006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tive family program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6445800" y="465300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tive transport a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2630880" y="83664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and out of school community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7023240" y="29973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equi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254880" y="134136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tra curricula initia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6736320" y="1484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licy ch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28440" y="214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School Setting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Recommended Activities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E and Sport classes in the curriculum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Opportunities to participate in extra-curricular activitie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ree play at recess and lunch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Walking School Bus program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ctive playground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arental involvement with children’s sporting interests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pic>
        <p:nvPicPr>
          <p:cNvPr id="183" name="Picture 12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686400" cy="4267440"/>
          </a:xfrm>
          <a:prstGeom prst="rect">
            <a:avLst/>
          </a:prstGeom>
          <a:ln w="0">
            <a:noFill/>
          </a:ln>
        </p:spPr>
      </p:pic>
      <p:sp>
        <p:nvSpPr>
          <p:cNvPr id="18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School Program Example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413000"/>
          <a:ext cx="8381880" cy="4014720"/>
        </p:xfrm>
        <a:graphic>
          <a:graphicData uri="http://schemas.openxmlformats.org/drawingml/2006/table">
            <a:tbl>
              <a:tblPr/>
              <a:tblGrid>
                <a:gridCol w="2438280"/>
                <a:gridCol w="2024280"/>
                <a:gridCol w="947520"/>
                <a:gridCol w="297180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 P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m/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ty use of ova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 use of green spa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vering the TurtleWay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L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necting paths and cycle-ways between township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escent playground marking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children playing in specific area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1"/>
                        </a:rPr>
                        <a:t>Walking school bu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2"/>
                        </a:rPr>
                        <a:t>www.walkingschoolbus.c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increase amount of PA and safe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77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velSmart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3"/>
                        </a:rPr>
                        <a:t>www.travelsmart.gov.au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LD, VIC, SA and W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stainable travel arrange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Primary School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PA at school and beyo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</a:tbl>
          </a:graphicData>
        </a:graphic>
      </p:graphicFrame>
      <p:sp>
        <p:nvSpPr>
          <p:cNvPr id="1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5"/>
          <p:cNvSpPr/>
          <p:nvPr/>
        </p:nvSpPr>
        <p:spPr>
          <a:xfrm>
            <a:off x="457200" y="571500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se Study 3.1, 3.2  p.72-3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aboratory 3.3 p.7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6" descr="AG00317_"/>
          <p:cNvPicPr/>
          <p:nvPr/>
        </p:nvPicPr>
        <p:blipFill>
          <a:blip r:embed="rId4"/>
          <a:stretch/>
        </p:blipFill>
        <p:spPr>
          <a:xfrm>
            <a:off x="8077320" y="5410080"/>
            <a:ext cx="83016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7160" y="1571760"/>
            <a:ext cx="7910640" cy="16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08080"/>
                </a:solidFill>
                <a:latin typeface="Arial"/>
              </a:rPr>
              <a:t>Workplace Setting-based Programs</a:t>
            </a:r>
            <a:endParaRPr b="0" lang="en-US" sz="4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Workplace Program Example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4920" y="1197000"/>
          <a:ext cx="8381880" cy="5256360"/>
        </p:xfrm>
        <a:graphic>
          <a:graphicData uri="http://schemas.openxmlformats.org/drawingml/2006/table">
            <a:tbl>
              <a:tblPr/>
              <a:tblGrid>
                <a:gridCol w="2133360"/>
                <a:gridCol w="2781360"/>
                <a:gridCol w="792360"/>
                <a:gridCol w="2674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 P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m/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t Beat Challenge, Lets Get Moving and Stroll, Strut, Stride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1"/>
                        </a:rPr>
                        <a:t>www.newhealth.govt.nz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Z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PA at work and health awarene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in to Work Out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2"/>
                        </a:rPr>
                        <a:t>http://www.dundee.ac.uk/sportexercise/events/2005/walkin.ht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self-help inform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irway to Health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3"/>
                        </a:rPr>
                        <a:t>www.activelivingatwork.c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use of stairs at wor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d 30 – its not a big exercise’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4"/>
                        </a:rPr>
                        <a:t>http://www.findthirty.com.au/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s for a healthier approach to PA in the workfo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at Work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5"/>
                        </a:rPr>
                        <a:t>http://www.shaw.uk.com/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 for businesses which promote PA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57160" y="1500120"/>
            <a:ext cx="7910640" cy="16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08080"/>
                </a:solidFill>
                <a:latin typeface="Arial"/>
              </a:rPr>
              <a:t>Community Setting-based Programs</a:t>
            </a:r>
            <a:endParaRPr b="0" lang="en-US" sz="4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What’s Wrong with this Picture?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lazyfitness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814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5b4628"/>
                </a:solidFill>
                <a:latin typeface="Arial"/>
              </a:rPr>
              <a:t>Community Program Examples</a:t>
            </a:r>
            <a:endParaRPr b="0" lang="en-US" sz="36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197000"/>
          <a:ext cx="8229600" cy="4807080"/>
        </p:xfrm>
        <a:graphic>
          <a:graphicData uri="http://schemas.openxmlformats.org/drawingml/2006/table">
            <a:tbl>
              <a:tblPr/>
              <a:tblGrid>
                <a:gridCol w="2095560"/>
                <a:gridCol w="2360520"/>
                <a:gridCol w="855720"/>
                <a:gridCol w="291780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 Pag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m/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nong Common Health Walks’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1"/>
                        </a:rPr>
                        <a:t>http://www.dpi.wa.gov.au/walking/713.asp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of volunteers to lead regular nature walks in the local environmen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ing the Way to Health’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2"/>
                        </a:rPr>
                        <a:t>http://www.whi.org.uk/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ing recreational walking safer and provides information for walkers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 to Health’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3"/>
                        </a:rPr>
                        <a:t>http://www.path-to-health.com/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ing paths close to existing footpaths. Located near residences and workplac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rnley Community Walk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-monthly walks lead by volunteer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lk and Talk’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l walking groups promoting PA and social environment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ping Out’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 adult walking groups and provides resources/kit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bile skate park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 u="sng">
                          <a:solidFill>
                            <a:srgbClr val="969696"/>
                          </a:solidFill>
                          <a:uFillTx/>
                          <a:latin typeface="Arial"/>
                          <a:hlinkClick r:id="rId4"/>
                        </a:rPr>
                        <a:t>www.joondalup.wa.gov.a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 skate environment for any communit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d4d4d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87"/>
          <p:cNvSpPr/>
          <p:nvPr/>
        </p:nvSpPr>
        <p:spPr>
          <a:xfrm>
            <a:off x="685800" y="601992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se Study 3.4  p.7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8" descr="AG00317_"/>
          <p:cNvPicPr/>
          <p:nvPr/>
        </p:nvPicPr>
        <p:blipFill>
          <a:blip r:embed="rId5"/>
          <a:stretch/>
        </p:blipFill>
        <p:spPr>
          <a:xfrm>
            <a:off x="8229600" y="5715000"/>
            <a:ext cx="71136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5b4628"/>
                </a:solidFill>
                <a:latin typeface="Arial"/>
              </a:rPr>
              <a:t>Specific Physical Activity Approaches - Federal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14400" y="1196640"/>
            <a:ext cx="39225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ederal Program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ustralian Institute of Sport (AIS)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Sports Performance and Developmen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www.ausport.gov.au/</a:t>
            </a:r>
            <a:endParaRPr b="0" lang="en-US" sz="1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ustralian Sport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ommission Busines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992840" y="1267920"/>
            <a:ext cx="39225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ctive after school communitie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Junior 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Indigenous 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isability Program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Women in 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rugs in 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laying Fair – ethics in 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Membership Growth and Club Developmen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oaching and Officiating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ogo_asc"/>
          <p:cNvPicPr/>
          <p:nvPr/>
        </p:nvPicPr>
        <p:blipFill>
          <a:blip r:embed="rId2"/>
          <a:stretch/>
        </p:blipFill>
        <p:spPr>
          <a:xfrm>
            <a:off x="3357720" y="0"/>
            <a:ext cx="1801800" cy="941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Young child plays a game of rugby Photo: NSIC collection AS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5157720"/>
            <a:ext cx="2022480" cy="1327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young children work with a tennis coach Photo: NSIC collection AS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4508640"/>
            <a:ext cx="1290600" cy="1780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AIS outdoor synthentic track Photo: ASC collection NSIC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56000" y="4437000"/>
            <a:ext cx="2336760" cy="1892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AIS Visitors Centre in Canberra Photo: ASC collection NSIC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48360" y="5373720"/>
            <a:ext cx="1512720" cy="933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5b4628"/>
                </a:solidFill>
                <a:latin typeface="Arial"/>
              </a:rPr>
              <a:t>Specific Physical Activity Approaches - State</a:t>
            </a: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4400" y="990720"/>
            <a:ext cx="392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Sport and Recreation Victoria (SRV)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Access for all abiliti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ndigenous Sport and Recreation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Masters Sport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hysical Activity Initiative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Women in Sport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92840" y="990720"/>
            <a:ext cx="392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b4628"/>
                </a:solidFill>
                <a:latin typeface="Arial"/>
              </a:rPr>
              <a:t>Junior Sport Conference</a:t>
            </a:r>
            <a:endParaRPr b="0" lang="en-US" sz="2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b4628"/>
                </a:solidFill>
                <a:latin typeface="Arial"/>
              </a:rPr>
              <a:t>Community Organisation Development</a:t>
            </a:r>
            <a:endParaRPr b="0" lang="en-US" sz="2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b4628"/>
                </a:solidFill>
                <a:latin typeface="Arial"/>
              </a:rPr>
              <a:t>Member Protection</a:t>
            </a:r>
            <a:endParaRPr b="0" lang="en-US" sz="28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b4628"/>
                </a:solidFill>
                <a:latin typeface="Arial"/>
              </a:rPr>
              <a:t>SRV funding grants</a:t>
            </a:r>
            <a:endParaRPr b="0" lang="en-US" sz="28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1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SRV Funding Project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179280" y="1268280"/>
          <a:ext cx="87631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7631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AG00550_"/>
          <p:cNvPicPr/>
          <p:nvPr/>
        </p:nvPicPr>
        <p:blipFill>
          <a:blip r:embed="rId3"/>
          <a:stretch/>
        </p:blipFill>
        <p:spPr>
          <a:xfrm>
            <a:off x="7421400" y="5181480"/>
            <a:ext cx="1722600" cy="140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5b4628"/>
                </a:solidFill>
                <a:latin typeface="Arial"/>
              </a:rPr>
              <a:t>Program Effectiveness Summary</a:t>
            </a:r>
            <a:endParaRPr b="0" lang="en-US" sz="36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5528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School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Evidence for increase in PA level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‘</a:t>
            </a: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Whole school approach’ most effective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ositive impact on local communiti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Flow on effect to parents.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3280" y="1341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Workplace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ncrease in PA levels and staff health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vide good short term benefit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blems do exist with current program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Little evidence of how effect these programs are.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ritten Report 3.5 p.80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AG00317_"/>
          <p:cNvPicPr/>
          <p:nvPr/>
        </p:nvPicPr>
        <p:blipFill>
          <a:blip r:embed="rId1"/>
          <a:stretch/>
        </p:blipFill>
        <p:spPr>
          <a:xfrm>
            <a:off x="8153280" y="4572000"/>
            <a:ext cx="83052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8308080" y="914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.8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j0336395"/>
          <p:cNvPicPr/>
          <p:nvPr/>
        </p:nvPicPr>
        <p:blipFill>
          <a:blip r:embed="rId2"/>
          <a:stretch/>
        </p:blipFill>
        <p:spPr>
          <a:xfrm>
            <a:off x="8229600" y="22860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Web Links – Chapter 3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30" name="Rectangle 8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7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233" name="Rectangle 3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4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"/>
                    </a:rPr>
                    <a:t>http://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http://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http://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http://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http://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Introduction (Centre for disease control and prevention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US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www.nphp.gov.au/workprog/sigpa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http://www.cdc.gov/HealthyYout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http://www.ijbnpa.org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http://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Rectangle 6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Rectangle 11"/>
          <p:cNvSpPr/>
          <p:nvPr/>
        </p:nvSpPr>
        <p:spPr>
          <a:xfrm>
            <a:off x="0" y="1371600"/>
            <a:ext cx="9144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Sports Commission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3"/>
              </a:rPr>
              <a:t>http://www.ausport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Find 30 promotion (Government of WA Department of Health)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4"/>
              </a:rPr>
              <a:t>http://www.find30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Walking School Bus promotion (UK)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5"/>
              </a:rPr>
              <a:t>http://www.walkingbus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Ministry of Health (New Zealand) toolkits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6"/>
              </a:rPr>
              <a:t>http://www.newhealth.govt.nz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he 10,000 Steps Rockhampton project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7"/>
              </a:rPr>
              <a:t>http://www.10000steps.org.au/rockhampton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ravelsmart Australia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8"/>
              </a:rPr>
              <a:t>http://www.travelsmart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Organisation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9"/>
              </a:rPr>
              <a:t>http://www.who.i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Heart Foundation Australia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30"/>
              </a:rPr>
              <a:t>http://www.heartfoundation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VicHealth (The Victorian Health Promotion Foundation)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31"/>
              </a:rPr>
              <a:t>http://www.vichealth.vic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Be Active promotion (Government of South Australia)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32"/>
              </a:rPr>
              <a:t>http://www.beactive.com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116000" y="18900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b Links – Chapter 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40" name="Rectangle 4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5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42" name="Group 6"/>
              <p:cNvGrpSpPr/>
              <p:nvPr/>
            </p:nvGrpSpPr>
            <p:grpSpPr>
              <a:xfrm>
                <a:off x="0" y="1562040"/>
                <a:ext cx="9144000" cy="3724920"/>
                <a:chOff x="0" y="1562040"/>
                <a:chExt cx="9144000" cy="3724920"/>
              </a:xfrm>
            </p:grpSpPr>
            <p:sp>
              <p:nvSpPr>
                <p:cNvPr id="243" name="Rectangle 7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8"/>
                <p:cNvSpPr/>
                <p:nvPr/>
              </p:nvSpPr>
              <p:spPr>
                <a:xfrm>
                  <a:off x="0" y="1562040"/>
                  <a:ext cx="9144000" cy="372492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"/>
                    </a:rPr>
                    <a:t>http://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http://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http://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http://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http://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Introduction (Centre for disease control and prevention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/workprog/sigpa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HealthyYout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ijbnpa.org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Rectangle 9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Rectangle 12"/>
          <p:cNvSpPr/>
          <p:nvPr/>
        </p:nvSpPr>
        <p:spPr>
          <a:xfrm>
            <a:off x="0" y="1371600"/>
            <a:ext cx="9144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Physical Activity Resources for Health Professionals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Introduction (Centre for disease control and prevention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USA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2"/>
              </a:rPr>
              <a:t>http://www.cdc.gov/nccdphp/dnpa/physical/health_professionals/index.htm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Health Promotion (Public Health Agency of Canada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3"/>
              </a:rPr>
              <a:t>http://www.phac-aspc.gc.ca/hp-ps/index.html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Strategic Inter-Governmental Forum on Physical Activity and Health (SIGPAH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4"/>
              </a:rPr>
              <a:t>http://www.nphp.gov.au/workprog/sigpah/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Healthy youth (Centre for disease control and prevention (USA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5"/>
              </a:rPr>
              <a:t>http://www.cdc.gov/HealthyYouth/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On The Move promotion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6"/>
              </a:rPr>
              <a:t>http://www.americaonthemove.org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Papers from the International Journal of Behavioural Nutrition and Physical Activity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7"/>
              </a:rPr>
              <a:t>http://www.ijbnpa.org/hom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Department of health and aging (Australian government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8"/>
              </a:rPr>
              <a:t>http://www.health.gov.au/internet/wcms/publishing.nsf/content/hom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Building a healthy, active Australia (Australian government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9"/>
              </a:rPr>
              <a:t>http://www.healthyactive.gov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National Public Health Partnership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0"/>
              </a:rPr>
              <a:t>http://www.nphp.gov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Be Active promotion (Government of South Australia)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1"/>
              </a:rPr>
              <a:t>http://www.beactive.com.au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Sport and Recreation Australia: </a:t>
            </a:r>
            <a:r>
              <a:rPr b="0" lang="en-AU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2"/>
              </a:rPr>
              <a:t>http://www.sport.vic.gov.au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>
            <a:hlinkClick r:id="rId23" action="ppaction://hlinksldjump"/>
          </p:cNvPr>
          <p:cNvSpPr/>
          <p:nvPr/>
        </p:nvSpPr>
        <p:spPr>
          <a:xfrm>
            <a:off x="81532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808080"/>
                </a:solidFill>
                <a:latin typeface="Arial"/>
              </a:rPr>
              <a:t>A Settings Approach</a:t>
            </a:r>
            <a:endParaRPr b="0" lang="en-US" sz="5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A Settings Approach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99640" y="1125000"/>
            <a:ext cx="392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Why are people less physically active?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Reliance on technology / motorised transpor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More people living in urban environment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hanges in work practice / hour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hanges in leisure patterns due to work / education need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3280" y="1125000"/>
            <a:ext cx="392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 setting is an area where the health message can be communicated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xamples include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1" action="ppaction://hlinksldjump"/>
              </a:rPr>
              <a:t>Family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2" action="ppaction://hlinksldjump"/>
              </a:rPr>
              <a:t>Transport system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3" action="ppaction://hlinksldjump"/>
              </a:rPr>
              <a:t>Healthcare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4" action="ppaction://hlinksldjump"/>
              </a:rPr>
              <a:t>Workplace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ommunity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5" action="ppaction://hlinksldjump"/>
              </a:rPr>
              <a:t>Schools</a:t>
            </a: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 Eg. Walking to school program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969696"/>
                </a:solidFill>
                <a:uFillTx/>
                <a:latin typeface="Arial"/>
                <a:hlinkClick r:id="rId6" action="ppaction://hlinksldjump"/>
              </a:rPr>
              <a:t>Multiple Setting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9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Organization Chart 2"/>
          <p:cNvGrpSpPr/>
          <p:nvPr/>
        </p:nvGrpSpPr>
        <p:grpSpPr>
          <a:xfrm>
            <a:off x="457200" y="1197000"/>
            <a:ext cx="8228880" cy="4524480"/>
            <a:chOff x="457200" y="1197000"/>
            <a:chExt cx="8228880" cy="4524480"/>
          </a:xfrm>
        </p:grpSpPr>
        <p:cxnSp>
          <p:nvCxnSpPr>
            <p:cNvPr id="101" name="_s1028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558760" y="201816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2"/>
            </p:cNvCxnSpPr>
            <p:nvPr/>
          </p:nvCxnSpPr>
          <p:spPr>
            <a:xfrm flipV="1">
              <a:off x="4571280" y="30060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2678760" y="2018520"/>
              <a:ext cx="905400" cy="2880720"/>
            </a:xfrm>
            <a:prstGeom prst="bentConnector3">
              <a:avLst>
                <a:gd name="adj1" fmla="val 209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031"/>
            <p:cNvSpPr/>
            <p:nvPr/>
          </p:nvSpPr>
          <p:spPr>
            <a:xfrm>
              <a:off x="3337200" y="11970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etting-based 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457200" y="39117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e School setting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3337200" y="39117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e Work Setting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4"/>
            <p:cNvSpPr/>
            <p:nvPr/>
          </p:nvSpPr>
          <p:spPr>
            <a:xfrm>
              <a:off x="6217560" y="39117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e Community 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etting</a:t>
              </a: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j0149057"/>
          <p:cNvPicPr/>
          <p:nvPr/>
        </p:nvPicPr>
        <p:blipFill>
          <a:blip r:embed="rId1"/>
          <a:stretch/>
        </p:blipFill>
        <p:spPr>
          <a:xfrm>
            <a:off x="6012000" y="1197000"/>
            <a:ext cx="2765160" cy="197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0185183"/>
          <p:cNvPicPr/>
          <p:nvPr/>
        </p:nvPicPr>
        <p:blipFill>
          <a:blip r:embed="rId2"/>
          <a:stretch/>
        </p:blipFill>
        <p:spPr>
          <a:xfrm>
            <a:off x="250920" y="1125360"/>
            <a:ext cx="298116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85920" y="1356840"/>
            <a:ext cx="6572160" cy="210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808080"/>
                </a:solidFill>
                <a:latin typeface="Arial"/>
              </a:rPr>
              <a:t>Suitability of School, Community and Workplace Settings for Physical Activity Interventions</a:t>
            </a:r>
            <a:endParaRPr b="0" lang="en-US" sz="36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1600" y="4452840"/>
            <a:ext cx="79167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ng Physical Activity: Settings Based Approache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Family and Transport Setting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00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amily Setting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amily is a primary influence on child and adolescent health behaviours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arent’s play a key role in stimulating children’s interest in physical activities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arents need to be active role models for their children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164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Transport Setting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Cars and public transport are the most common methods of transport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These methods require little physical activity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Transport should involve some level of activity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xamples; Walk or ride to work/school, park further away from work/school, get of the tram a stop earlier and walk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See ‘Go for your Life’ TV ad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j0185217"/>
          <p:cNvPicPr/>
          <p:nvPr/>
        </p:nvPicPr>
        <p:blipFill>
          <a:blip r:embed="rId1"/>
          <a:stretch/>
        </p:blipFill>
        <p:spPr>
          <a:xfrm>
            <a:off x="1042920" y="4292640"/>
            <a:ext cx="3270240" cy="2179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Healthcare Setting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400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Healthcare provides the link between getting sufficient physical activity and good health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xamples of healthcare groups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VicHealth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VICFI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sthma Victoria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iabetes Victoria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Health Professionals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octors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eg. Active script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Physiotherapist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Nutritionist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3280" y="1341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World Health Organisation (WHO)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Strives to use a variety of settings to implement comprehensive studies. 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National Heart Foundation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Aims to increase community fitness level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Gives physical and social support through social settings.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who_logo_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924280"/>
            <a:ext cx="3962520" cy="53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5410080"/>
            <a:ext cx="2209680" cy="685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8231760" y="914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.6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j0336395"/>
          <p:cNvPicPr/>
          <p:nvPr/>
        </p:nvPicPr>
        <p:blipFill>
          <a:blip r:embed="rId5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5b4628"/>
                </a:solidFill>
                <a:latin typeface="Arial"/>
              </a:rPr>
              <a:t>Workplace Settings</a:t>
            </a:r>
            <a:endParaRPr b="0" lang="en-US" sz="4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Promotion of PA at work assists with;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mproved morale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ncreased work productivity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Reduced ‘sickies’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Less feeling of being stressed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Reduced staff turn over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b4628"/>
                </a:solidFill>
                <a:latin typeface="Arial"/>
              </a:rPr>
              <a:t>Improved community relations</a:t>
            </a: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Difficulties include;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Lack of interest at management level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The size of the organisation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Facilities available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b4628"/>
                </a:solidFill>
                <a:latin typeface="Arial"/>
              </a:rPr>
              <a:t>Lack of support or interest from workers</a:t>
            </a: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b46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4628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5b4628"/>
                </a:solidFill>
                <a:latin typeface="Arial"/>
              </a:rPr>
              <a:t>VCE Physical Education - Unit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6172200" y="4191120"/>
            <a:ext cx="2743200" cy="23032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1524240" cy="16765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0:17:34Z</dcterms:created>
  <dc:creator>DE&amp;T User</dc:creator>
  <dc:description/>
  <dc:language>en-US</dc:language>
  <cp:lastModifiedBy>Lyn Clarkson</cp:lastModifiedBy>
  <dcterms:modified xsi:type="dcterms:W3CDTF">2008-03-11T04:22:25Z</dcterms:modified>
  <cp:revision>172</cp:revision>
  <dc:subject/>
  <dc:title>Unit 3</dc:title>
</cp:coreProperties>
</file>